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6.png" ContentType="image/png"/>
  <Override PartName="/ppt/media/image18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126-A7F1-41F7-83DF-0F2335F2C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FD6-9174-4BF1-8724-14EC4D08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organic molecules to complex organic molecules and became the building blocks of the first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et up an experiment to refute spontaneous generation for microscopic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E40-3D54-4EDD-8312-2F7F3579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D0C-06B0-4236-8BEA-E0AB00DD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ECC-D975-4494-9C63-1CE74515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322-DA05-4CEC-B1A0-22D96AE3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BDC-820D-48E7-9667-518260B9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32F-FDA1-4BE2-9B3B-78FB3A06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988-094E-4D6B-8B28-2750FF78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0D9-B8F6-4216-8298-1D6BF378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CD9-6F90-4012-8895-21962DA1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12A-7CA1-4734-A044-F8A4130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912-4620-4A6D-999D-B001BD1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78D-C29F-40DA-B391-CC93F7BE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E780-3803-4E67-9E99-75F03941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rkive.org/japanese-macaque/macaca-fuscata/video-08c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arkive.org/japanese-macaque/macaca-fuscata/video-00.html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arkive.org/japanese-macaque/macaca-fuscata/video-03.html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rkive.org/japanese-macaque/macaca-fuscata/video-11.html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03/0302003.htm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(Intro to Biology), Part 3 Notes – The 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underseaaug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owoct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0007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orsec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arkthoughtnov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milingeinstein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pyingsept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ubmarin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1_01_36m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ovary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 organized way of using evidence to learn about the natur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body of knowledge scientists have built up over the years using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000734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base their questions up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 information has been collect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d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is an important step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cientificmethod1"/>
          <p:cNvPicPr/>
          <p:nvPr/>
        </p:nvPicPr>
        <p:blipFill>
          <a:blip r:embed="rId1"/>
          <a:stretch/>
        </p:blipFill>
        <p:spPr>
          <a:xfrm>
            <a:off x="4786200" y="1219320"/>
            <a:ext cx="4357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 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questions can we ask about the behavior that we observed with the Japanese Maca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apmac2"/>
          <p:cNvPicPr/>
          <p:nvPr/>
        </p:nvPicPr>
        <p:blipFill>
          <a:blip r:embed="rId1"/>
          <a:stretch/>
        </p:blipFill>
        <p:spPr>
          <a:xfrm>
            <a:off x="1371600" y="2496960"/>
            <a:ext cx="64771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ypothesis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able explanation of a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n Wiley hypothesized that the use of isometric exercise to raise blood pressure during maneuvers might increase tolerance to g-force and prevent blac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16desert"/>
          <p:cNvPicPr/>
          <p:nvPr/>
        </p:nvPicPr>
        <p:blipFill>
          <a:blip r:embed="rId1"/>
          <a:stretch/>
        </p:blipFill>
        <p:spPr>
          <a:xfrm>
            <a:off x="4724280" y="1295280"/>
            <a:ext cx="441972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4876920" y="5181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 did he make this hypothes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pothesis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able explanation of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y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tested explanation that unifies a broad range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t’s form a hypothesis about why our Japanese Macaques are exhibiting thi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sure that this is a testable hypothe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3886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kive.org/japanese-macaque/macaca-fuscata/video-08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33920" y="114264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riment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igation of a phenomenon in a controlled setting to test a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’s look at a new experi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ientist observes that grass does not grow in a certain part of a la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ss died because there was no wa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hinchBugDamage"/>
          <p:cNvPicPr/>
          <p:nvPr/>
        </p:nvPicPr>
        <p:blipFill>
          <a:blip r:embed="rId1"/>
          <a:stretch/>
        </p:blipFill>
        <p:spPr>
          <a:xfrm>
            <a:off x="0" y="16765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rol Group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used for compar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Group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roup exposed to the variable that is being te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riable 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factor that can affect the outcome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te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light, disease, etc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t Variable 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ipulated variable; what is changed by the experim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ount of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pendent Variable 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that is measured; the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ass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m"/>
          <p:cNvPicPr/>
          <p:nvPr/>
        </p:nvPicPr>
        <p:blipFill>
          <a:blip r:embed="rId1"/>
          <a:stretch/>
        </p:blipFill>
        <p:spPr>
          <a:xfrm>
            <a:off x="4572000" y="1295280"/>
            <a:ext cx="4572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ant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/variable that doesn’t change during an experi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some constants in our grass experime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grass-growth-at-10-days"/>
          <p:cNvPicPr/>
          <p:nvPr/>
        </p:nvPicPr>
        <p:blipFill>
          <a:blip r:embed="rId1"/>
          <a:stretch/>
        </p:blipFill>
        <p:spPr>
          <a:xfrm>
            <a:off x="1828800" y="33526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cienc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t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ccept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er review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y which the procedures used during an experiment and the results are evaluated by other scienti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(Meter, gram, liter,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4: Perform an Experiment/Gather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a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ined from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titative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erical data (measurements of time, temperature, length, mass, area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 Area of healthy grass vs. area of dead gr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tative Data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s of what our senses det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 More healthy grass vs. less dead gr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 Analyze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hat scientists 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y hypothesis been support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re data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fferent procedures needed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work 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dat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good tools for data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graphs"/>
          <p:cNvPicPr/>
          <p:nvPr/>
        </p:nvPicPr>
        <p:blipFill>
          <a:blip r:embed="rId1"/>
          <a:stretch/>
        </p:blipFill>
        <p:spPr>
          <a:xfrm>
            <a:off x="4952880" y="160020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report their conclusions and findings in scientific journals (peer-reviewed journ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examples can you think o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over_nature"/>
          <p:cNvPicPr/>
          <p:nvPr/>
        </p:nvPicPr>
        <p:blipFill>
          <a:blip r:embed="rId1"/>
          <a:stretch/>
        </p:blipFill>
        <p:spPr>
          <a:xfrm>
            <a:off x="0" y="281952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ages"/>
          <p:cNvPicPr/>
          <p:nvPr/>
        </p:nvPicPr>
        <p:blipFill>
          <a:blip r:embed="rId2"/>
          <a:stretch/>
        </p:blipFill>
        <p:spPr>
          <a:xfrm>
            <a:off x="3048120" y="2819520"/>
            <a:ext cx="298584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eLancetHealth"/>
          <p:cNvPicPr/>
          <p:nvPr/>
        </p:nvPicPr>
        <p:blipFill>
          <a:blip r:embed="rId3"/>
          <a:stretch/>
        </p:blipFill>
        <p:spPr>
          <a:xfrm>
            <a:off x="6138720" y="2819520"/>
            <a:ext cx="300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962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m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fi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r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ic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urther research is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other experiments could we do to test why the grass is not healt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scientific_method"/>
          <p:cNvPicPr/>
          <p:nvPr/>
        </p:nvPicPr>
        <p:blipFill>
          <a:blip r:embed="rId1"/>
          <a:stretch/>
        </p:blipFill>
        <p:spPr>
          <a:xfrm>
            <a:off x="3876840" y="838080"/>
            <a:ext cx="5267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for fun!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ol behaviors exhibited by Japanese Maca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Japanese+Macaque+Monkeys+Relax+Hot+Springs+JLoDCv8qWdWl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916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Japanese+Macaques+Bathe+Hot+Springs+N0VHA8PxkQJl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886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33520" y="58672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kive.org/japanese-macaque/macaca-fuscata/video-00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build snowballs for fu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6a00d8341c630a53ef012876d15483970c-600wi"/>
          <p:cNvPicPr/>
          <p:nvPr/>
        </p:nvPicPr>
        <p:blipFill>
          <a:blip r:embed="rId1"/>
          <a:stretch/>
        </p:blipFill>
        <p:spPr>
          <a:xfrm>
            <a:off x="0" y="1371600"/>
            <a:ext cx="5486400" cy="426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1246239"/>
          <p:cNvPicPr/>
          <p:nvPr/>
        </p:nvPicPr>
        <p:blipFill>
          <a:blip r:embed="rId2"/>
          <a:stretch/>
        </p:blipFill>
        <p:spPr>
          <a:xfrm>
            <a:off x="5486400" y="1676520"/>
            <a:ext cx="3657600" cy="3484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43000" y="5867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kive.org/japanese-macaque/macaca-fuscata/video-03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groom other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25909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kive.org/japanese-macaque/macaca-fuscata/video-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Historical Example of the Scientific Method: Spontaneous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pontaneous Gener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that life can arise from nonliving m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ogenesis Gener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that living things come only from other living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are these two theories differe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sco Redi – Proposed Biogenesis Generation, Disproved Spontaneous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maggots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546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8088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 would the presence of maggots be explained by spontaneous gener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is Pasteur – Disproved Spontaneous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800600" y="580392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Pasteur’s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03/0302003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asteurs-experiment"/>
          <p:cNvPicPr/>
          <p:nvPr/>
        </p:nvPicPr>
        <p:blipFill>
          <a:blip r:embed="rId2"/>
          <a:stretch/>
        </p:blipFill>
        <p:spPr>
          <a:xfrm>
            <a:off x="1219320" y="1523880"/>
            <a:ext cx="67053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is Always Chang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Astr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at HOT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414680" y="1371600"/>
            <a:ext cx="4383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 and his heliocen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41164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657600" cy="2751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51160" y="53341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Ge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36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96000" y="57913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eli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and Human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cience to inform decisions about health care, environmental poli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science’s major discoveries have been considered controversial b/c they call into question certain belief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eth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loning, stem cell research,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71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make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6248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observations can you make about this image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99635aa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vs. I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serv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gathering information in an orderly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information from the five s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erence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at you know with what you have learned and beginning the process of making logical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t’s practice making observations with some new imag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airy-hea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31:37Z</dcterms:created>
  <dc:creator>Beth</dc:creator>
  <dc:description/>
  <dc:language>en-US</dc:language>
  <cp:lastModifiedBy>Windows User</cp:lastModifiedBy>
  <dcterms:modified xsi:type="dcterms:W3CDTF">2014-08-22T16:27:25Z</dcterms:modified>
  <cp:revision>16</cp:revision>
  <dc:subject/>
  <dc:title>The Characteristics of Life</dc:title>
</cp:coreProperties>
</file>